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4A6-4330-4A22-AEE4-56E89CFA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478-E3C9-4515-A31B-6374FF44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3A1-C5A4-4B8B-965C-1E7E8C70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4996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428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4996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428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D73-E171-4C96-91A2-00556763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97A1-DED8-4AE2-A877-3A3B4C80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63C3-2944-4F5B-BD7B-5E59FA01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7AFD-8F2E-40DF-8F42-707A7A41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F3C6-714C-4DEB-9623-1087FA23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EAF1-3D55-41C6-BADB-8DF480AB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00040" y="3805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6FDE-A49B-4EA0-83FA-889F577B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6307-67AD-4E7D-89D2-CF012E7D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AD2-56CE-4F08-BADC-6B7A9D52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5C28-DDC1-4D6A-8275-A8361B8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DE94-27DA-4F5A-B852-9D743732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F3DB-22FD-4EB7-AD68-518A9AF1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5189-D9CC-49AA-BDC0-DE7F4015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4996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1428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600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44996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1428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3B1E-2A79-4679-BF8A-2391A74F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90C-3CCB-4416-B006-6C4ECF97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B19-D4B9-4E3A-A209-7045634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C27-9BF8-435A-A84A-86F5CDB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00040" y="3805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F0B-74E7-4E0A-A091-AB03EDAC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59F-0D22-4128-9883-764DB41E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D04-6DE5-4C89-82B0-DB54EB25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9DD-7CAE-4536-BFC6-D991DF1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Scribble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8072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270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668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19BA-6F11-4AEB-B46B-4D2652EB8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76520" y="1752480"/>
            <a:ext cx="7466040" cy="510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81120" y="1743120"/>
            <a:ext cx="95400" cy="5113440"/>
          </a:xfrm>
          <a:prstGeom prst="rect">
            <a:avLst/>
          </a:prstGeom>
          <a:solidFill>
            <a:srgbClr val="6397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1120" y="1743120"/>
            <a:ext cx="7580520" cy="95040"/>
          </a:xfrm>
          <a:prstGeom prst="rect">
            <a:avLst/>
          </a:prstGeom>
          <a:solidFill>
            <a:srgbClr val="6397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9040" y="1906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89040" y="266868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9040" y="343044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9040" y="4192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89040" y="495468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9040" y="571644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89040" y="6478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Scribble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18270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403668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D132-D933-4A23-A12C-08BAB631D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30481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440" y="2084400"/>
            <a:ext cx="3052800" cy="48960"/>
            <a:chOff x="1440" y="2084400"/>
            <a:chExt cx="3052800" cy="48960"/>
          </a:xfrm>
        </p:grpSpPr>
        <p:sp>
          <p:nvSpPr>
            <p:cNvPr id="68" name=""/>
            <p:cNvSpPr/>
            <p:nvPr/>
          </p:nvSpPr>
          <p:spPr>
            <a:xfrm>
              <a:off x="1440" y="2084400"/>
              <a:ext cx="3052800" cy="4896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36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608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440" y="2095920"/>
              <a:ext cx="15372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3024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3660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296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49320" y="2095920"/>
              <a:ext cx="1540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5748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6384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7020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014640" y="0"/>
            <a:ext cx="42840" cy="2131560"/>
            <a:chOff x="3014640" y="0"/>
            <a:chExt cx="42840" cy="2131560"/>
          </a:xfrm>
        </p:grpSpPr>
        <p:sp>
          <p:nvSpPr>
            <p:cNvPr id="80" name=""/>
            <p:cNvSpPr/>
            <p:nvPr/>
          </p:nvSpPr>
          <p:spPr>
            <a:xfrm>
              <a:off x="3014640" y="0"/>
              <a:ext cx="42840" cy="213156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16080" y="196704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16080" y="164952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16080" y="133128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16080" y="101376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16080" y="69588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16080" y="37836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16080" y="6084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r Log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3962160"/>
          </a:xfrm>
          <a:prstGeom prst="rect">
            <a:avLst/>
          </a:prstGeom>
          <a:solidFill>
            <a:srgbClr val="8888e2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003366"/>
            </a:outerShdw>
          </a:effectLst>
        </p:spPr>
        <p:txBody>
          <a:bodyPr lIns="92160" rIns="92160" tIns="46080" bIns="4608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sert Product Photograph Her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7" name="CIRCUITB" descr=""/>
          <p:cNvPicPr/>
          <p:nvPr/>
        </p:nvPicPr>
        <p:blipFill>
          <a:blip r:embed="rId1"/>
          <a:stretch/>
        </p:blipFill>
        <p:spPr>
          <a:xfrm flipH="1" rot="10800000">
            <a:off x="1828800" y="1904760"/>
            <a:ext cx="7162920" cy="4890960"/>
          </a:xfrm>
          <a:prstGeom prst="rect">
            <a:avLst/>
          </a:prstGeom>
          <a:ln w="0">
            <a:noFill/>
          </a:ln>
        </p:spPr>
      </p:pic>
      <p:pic>
        <p:nvPicPr>
          <p:cNvPr id="128" name="DESK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24460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VAN" descr=""/>
          <p:cNvPicPr/>
          <p:nvPr/>
        </p:nvPicPr>
        <p:blipFill>
          <a:blip r:embed="rId3"/>
          <a:srcRect l="0" t="9089" r="0" b="22732"/>
          <a:stretch/>
        </p:blipFill>
        <p:spPr>
          <a:xfrm>
            <a:off x="5486400" y="3886200"/>
            <a:ext cx="2895480" cy="2414520"/>
          </a:xfrm>
          <a:prstGeom prst="rect">
            <a:avLst/>
          </a:prstGeom>
          <a:ln w="0">
            <a:noFill/>
          </a:ln>
        </p:spPr>
      </p:pic>
      <p:pic>
        <p:nvPicPr>
          <p:cNvPr id="130" name="SCREWDRI" descr=""/>
          <p:cNvPicPr/>
          <p:nvPr/>
        </p:nvPicPr>
        <p:blipFill>
          <a:blip r:embed="rId4"/>
          <a:stretch/>
        </p:blipFill>
        <p:spPr>
          <a:xfrm>
            <a:off x="2133720" y="2133720"/>
            <a:ext cx="2600280" cy="2971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62320" y="2514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33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KEYBOARD" descr=""/>
          <p:cNvPicPr/>
          <p:nvPr/>
        </p:nvPicPr>
        <p:blipFill>
          <a:blip r:embed="rId5"/>
          <a:srcRect l="0" t="0" r="0" b="15998"/>
          <a:stretch/>
        </p:blipFill>
        <p:spPr>
          <a:xfrm>
            <a:off x="2971800" y="3657600"/>
            <a:ext cx="257004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WINDOW" descr=""/>
          <p:cNvPicPr/>
          <p:nvPr/>
        </p:nvPicPr>
        <p:blipFill>
          <a:blip r:embed="rId6"/>
          <a:srcRect l="0" t="0" r="0" b="29632"/>
          <a:stretch/>
        </p:blipFill>
        <p:spPr>
          <a:xfrm>
            <a:off x="0" y="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191120" y="3045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US" sz="5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’</a:t>
            </a:r>
            <a:br>
              <a:rPr sz="5400"/>
            </a:b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A service desk solution from IndeServe</a:t>
            </a:r>
            <a:endParaRPr b="0" lang="en-US" sz="2000" spc="-1" strike="noStrike">
              <a:solidFill>
                <a:srgbClr val="990000"/>
              </a:solidFill>
              <a:latin typeface="Scribb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57400" y="3276720"/>
            <a:ext cx="5029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990000"/>
                </a:solidFill>
                <a:latin typeface="Arial Narrow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486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New Zealand’s leading service desk ‘request</a:t>
            </a:r>
            <a:r>
              <a:rPr b="0" i="1" lang="en-NZ" sz="22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0" i="1" lang="en-NZ" sz="2200" spc="-1" strike="noStrike">
                <a:solidFill>
                  <a:srgbClr val="000000"/>
                </a:solidFill>
                <a:latin typeface="Arial Narrow"/>
              </a:rPr>
              <a:t> completion’ </a:t>
            </a: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management solution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71800" y="914400"/>
            <a:ext cx="3733200" cy="2028240"/>
            <a:chOff x="2971800" y="914400"/>
            <a:chExt cx="3733200" cy="20282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971800" y="914400"/>
              <a:ext cx="3307680" cy="20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730400" y="1711440"/>
              <a:ext cx="1508400" cy="63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922640" y="1677960"/>
              <a:ext cx="1231560" cy="67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40080" y="2435400"/>
              <a:ext cx="63180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9960" y="2374560"/>
              <a:ext cx="24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788400">
              <a:off x="4533480" y="1674720"/>
              <a:ext cx="297360" cy="127800"/>
            </a:xfrm>
            <a:prstGeom prst="parallelogram">
              <a:avLst>
                <a:gd name="adj" fmla="val 58169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6040" y="1627200"/>
              <a:ext cx="1782360" cy="7196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140280" y="1711440"/>
              <a:ext cx="1613520" cy="55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84600" y="1677960"/>
              <a:ext cx="40320" cy="40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A </a:t>
            </a:r>
            <a:r>
              <a:rPr b="0" lang="en-US" sz="4400" spc="-1" strike="noStrike" u="sng">
                <a:solidFill>
                  <a:srgbClr val="990000"/>
                </a:solidFill>
                <a:uFillTx/>
                <a:latin typeface="Arial Narrow"/>
              </a:rPr>
              <a:t>complete</a:t>
            </a: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 service desk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application suite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A tried and tested, feature rich, ma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MANAGED SERVICES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ploys powerful web-based applications and software tools -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 Service Sui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ed on in-house application developments by our data management tea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en, efficient documented processes for all “request to completion” service job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ined and experienced operational personnel and technician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s latest computer and communications technolog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1752480" cy="952560"/>
            <a:chOff x="0" y="0"/>
            <a:chExt cx="1752480" cy="95256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25480" y="374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915840" y="358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5440" y="714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480" y="685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788400">
              <a:off x="732960" y="356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00" y="334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79200" y="374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080" y="358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5486400"/>
            <a:ext cx="8534160" cy="12952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114800"/>
            <a:ext cx="8534160" cy="12952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Deployment 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Models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3137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An </a:t>
            </a:r>
            <a:r>
              <a:rPr b="0" lang="en-NZ" sz="2800" spc="-1" strike="noStrike">
                <a:solidFill>
                  <a:srgbClr val="990000"/>
                </a:solidFill>
                <a:latin typeface="Arial Narrow"/>
              </a:rPr>
              <a:t>ASP solution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you operate all aspects of the system, hosted by IndeServ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en-GB" sz="2800" spc="-1" strike="noStrike">
                <a:solidFill>
                  <a:srgbClr val="990000"/>
                </a:solidFill>
                <a:latin typeface="Arial Narrow"/>
              </a:rPr>
              <a:t>Outsourced solution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IndeServe personnel provide a fully management service, with full access by your Authorised Us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0" y="5562720"/>
            <a:ext cx="1116000" cy="1143000"/>
            <a:chOff x="6858000" y="5562720"/>
            <a:chExt cx="1116000" cy="1143000"/>
          </a:xfrm>
        </p:grpSpPr>
        <p:grpSp>
          <p:nvGrpSpPr>
            <p:cNvPr id="165" name=""/>
            <p:cNvGrpSpPr/>
            <p:nvPr/>
          </p:nvGrpSpPr>
          <p:grpSpPr>
            <a:xfrm>
              <a:off x="6934320" y="6095880"/>
              <a:ext cx="761400" cy="598680"/>
              <a:chOff x="6934320" y="6095880"/>
              <a:chExt cx="761400" cy="5986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56440" y="6095880"/>
                <a:ext cx="285480" cy="23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46880" y="6166440"/>
                <a:ext cx="34884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5200" y="6415200"/>
                <a:ext cx="33336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34320" y="6272640"/>
                <a:ext cx="380880" cy="319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6858000" y="55627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0" y="5562720"/>
              <a:ext cx="1116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IndeServe National</a:t>
              </a:r>
              <a:br>
                <a:rPr sz="1000"/>
              </a:b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Service Cent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per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57400" y="4191120"/>
            <a:ext cx="1066680" cy="1143000"/>
            <a:chOff x="2057400" y="4191120"/>
            <a:chExt cx="1066680" cy="1143000"/>
          </a:xfrm>
        </p:grpSpPr>
        <p:grpSp>
          <p:nvGrpSpPr>
            <p:cNvPr id="173" name=""/>
            <p:cNvGrpSpPr/>
            <p:nvPr/>
          </p:nvGrpSpPr>
          <p:grpSpPr>
            <a:xfrm>
              <a:off x="2209680" y="4724640"/>
              <a:ext cx="762120" cy="597960"/>
              <a:chOff x="2209680" y="4724640"/>
              <a:chExt cx="762120" cy="59796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800" y="4724640"/>
                <a:ext cx="285840" cy="23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622600" y="4795200"/>
                <a:ext cx="34920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590560" y="5043600"/>
                <a:ext cx="33336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209680" y="4901760"/>
                <a:ext cx="38088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"/>
            <p:cNvSpPr/>
            <p:nvPr/>
          </p:nvSpPr>
          <p:spPr>
            <a:xfrm>
              <a:off x="2057400" y="41911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7400" y="4191120"/>
              <a:ext cx="106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uthorised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057400" y="5562720"/>
            <a:ext cx="1066680" cy="1143000"/>
            <a:chOff x="2057400" y="5562720"/>
            <a:chExt cx="1066680" cy="114300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6096240"/>
              <a:ext cx="762120" cy="597960"/>
              <a:chOff x="2209680" y="6096240"/>
              <a:chExt cx="762120" cy="597960"/>
            </a:xfrm>
          </p:grpSpPr>
          <p:pic>
            <p:nvPicPr>
              <p:cNvPr id="18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431800" y="6096240"/>
                <a:ext cx="285840" cy="23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622600" y="6166800"/>
                <a:ext cx="34920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590560" y="6415200"/>
                <a:ext cx="33336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2209680" y="6273360"/>
                <a:ext cx="38088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6" name=""/>
            <p:cNvSpPr/>
            <p:nvPr/>
          </p:nvSpPr>
          <p:spPr>
            <a:xfrm>
              <a:off x="2057400" y="55627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7400" y="5562720"/>
              <a:ext cx="106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uthorised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800600" y="4343400"/>
            <a:ext cx="83808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Ho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nd data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5867280"/>
            <a:ext cx="83808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Ho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nd data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638320" y="6400800"/>
            <a:ext cx="12193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23720" y="640080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8960" y="6383160"/>
            <a:ext cx="117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Enquiries, report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ccess to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7240" y="6400800"/>
            <a:ext cx="123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Request to Comple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124080" y="5715000"/>
            <a:ext cx="3733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86080" y="5486400"/>
            <a:ext cx="205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Performance management and repor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472428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3760" y="4724280"/>
            <a:ext cx="117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Enquiries, report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ccess to infom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1240" y="4343400"/>
            <a:ext cx="123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Request to Comple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4280" y="457200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Narrow"/>
              </a:rPr>
              <a:t>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240" y="594360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Narrow"/>
              </a:rPr>
              <a:t>OUTSOUR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91520" y="1981080"/>
            <a:ext cx="1752480" cy="952560"/>
            <a:chOff x="7391520" y="1981080"/>
            <a:chExt cx="1752480" cy="952560"/>
          </a:xfrm>
        </p:grpSpPr>
        <p:pic>
          <p:nvPicPr>
            <p:cNvPr id="202" name="" descr=""/>
            <p:cNvPicPr/>
            <p:nvPr/>
          </p:nvPicPr>
          <p:blipFill>
            <a:blip r:embed="rId13"/>
            <a:stretch/>
          </p:blipFill>
          <p:spPr>
            <a:xfrm>
              <a:off x="7391520" y="198108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217000" y="235548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8307360" y="233964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86960" y="269532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01000" y="266688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788400">
              <a:off x="8124480" y="233784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1120" y="231588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7470720" y="235548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48600" y="233964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Clicking on to 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Service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057400"/>
            <a:ext cx="3047760" cy="441972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3048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1st level trained operato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echnology, Loc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rocesses,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24/7 Request To Compl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ervic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4191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 Service S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Web application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ustomer online reques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urchasing, tr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nd retri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5334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ustomer Sub-we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Document storage &amp; retri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Online asset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133720"/>
            <a:ext cx="312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IndeServe</a:t>
            </a:r>
            <a:r>
              <a:rPr b="1" lang="en-NZ" sz="1600" spc="-1" strike="noStrike">
                <a:solidFill>
                  <a:srgbClr val="990000"/>
                </a:solidFill>
                <a:latin typeface="Arial"/>
              </a:rPr>
              <a:t>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National Service Cen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i="1" lang="en-NZ" sz="1600" spc="-1" strike="noStrike">
                <a:solidFill>
                  <a:srgbClr val="000000"/>
                </a:solidFill>
                <a:latin typeface="Arial"/>
              </a:rPr>
              <a:t>Outsourced ‘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ervice Desk</a:t>
            </a:r>
            <a:r>
              <a:rPr b="0" i="1" lang="en-NZ" sz="1600" spc="-1" strike="noStrike">
                <a:solidFill>
                  <a:srgbClr val="000000"/>
                </a:solidFill>
                <a:latin typeface="Arial"/>
              </a:rPr>
              <a:t>’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19810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4382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743200"/>
            <a:ext cx="1143000" cy="6094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335268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657600"/>
            <a:ext cx="1676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3733920"/>
            <a:ext cx="2743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ssword-secure Web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lephone, Email or Fax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RVICE REQUESTS, PURCHASES, QUOTATIONS, TRACKING, REPORTING, INFORMATION 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724280"/>
            <a:ext cx="1676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7242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2057400"/>
            <a:ext cx="914400" cy="441972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1520" y="2057400"/>
            <a:ext cx="914400" cy="441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2057400"/>
            <a:ext cx="1828800" cy="441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89360" y="205740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2N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24200" y="205740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3R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8320" y="2590920"/>
            <a:ext cx="1569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IndeServe Resol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and Fron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Technicians &amp; Engin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3rd Part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038480"/>
            <a:ext cx="156672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00"/>
                </a:solidFill>
                <a:latin typeface="Arial Narrow"/>
              </a:rPr>
              <a:t>FACILITY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Tele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Cabling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Electrical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Pow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Air Cond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Heating &amp; Venti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Building 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1814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56386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9528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19112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2590920"/>
            <a:ext cx="1676520" cy="1371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4038480"/>
            <a:ext cx="1676520" cy="2362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0"/>
            <a:ext cx="1752480" cy="952560"/>
            <a:chOff x="0" y="0"/>
            <a:chExt cx="1752480" cy="95256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5480" y="374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915840" y="358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5440" y="714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9480" y="685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788400">
              <a:off x="732960" y="356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600" y="334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79200" y="374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080" y="358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Easy Access! Single </a:t>
            </a:r>
            <a:r>
              <a:rPr b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of contact, Single </a:t>
            </a:r>
            <a:r>
              <a:rPr b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of control!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0720" y="1828800"/>
            <a:ext cx="2361600" cy="1809360"/>
            <a:chOff x="990720" y="1828800"/>
            <a:chExt cx="2361600" cy="18093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1694160" y="1828800"/>
              <a:ext cx="904320" cy="7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2246760" y="1994400"/>
              <a:ext cx="110556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2146320" y="2768040"/>
              <a:ext cx="1055160" cy="8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990720" y="2380680"/>
              <a:ext cx="1206000" cy="99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 rot="11823600">
            <a:off x="3502800" y="3352680"/>
            <a:ext cx="2220840" cy="657360"/>
          </a:xfrm>
          <a:prstGeom prst="lightningBolt">
            <a:avLst/>
          </a:prstGeom>
          <a:solidFill>
            <a:srgbClr val="6397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3124080"/>
            <a:ext cx="3124440" cy="3353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4267080"/>
            <a:ext cx="1447560" cy="2210040"/>
          </a:xfrm>
          <a:prstGeom prst="flowChartMagneticDisk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943600" y="3581280"/>
            <a:ext cx="1828800" cy="1285920"/>
            <a:chOff x="5943600" y="3581280"/>
            <a:chExt cx="1828800" cy="1285920"/>
          </a:xfrm>
        </p:grpSpPr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6477120" y="3581280"/>
              <a:ext cx="685800" cy="5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6934320" y="3733560"/>
              <a:ext cx="83808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6858000" y="4267080"/>
              <a:ext cx="80028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5943600" y="3961800"/>
              <a:ext cx="9144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5718600" y="4952880"/>
            <a:ext cx="259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1st level Resol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chedulers &amp; Resour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2nd and 3rd level Resol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ervice Delive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Database and Sub-web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eporters and Draughts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57600" y="3182760"/>
            <a:ext cx="26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990000"/>
                </a:solidFill>
                <a:latin typeface="Arial Narrow"/>
              </a:rPr>
              <a:t>OUTSOURCED</a:t>
            </a:r>
            <a:r>
              <a:rPr b="1" lang="en-GB" sz="1600" spc="-1" strike="noStrike">
                <a:solidFill>
                  <a:srgbClr val="990000"/>
                </a:solidFill>
                <a:latin typeface="Arial Narrow"/>
              </a:rPr>
              <a:t> SERVICE </a:t>
            </a:r>
            <a:r>
              <a:rPr b="1" lang="en-NZ" sz="1600" spc="-1" strike="noStrike">
                <a:solidFill>
                  <a:srgbClr val="990000"/>
                </a:solidFill>
                <a:latin typeface="Arial Narrow"/>
              </a:rPr>
              <a:t>DE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 rot="2745000">
            <a:off x="4367880" y="4242240"/>
            <a:ext cx="7239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Sub-web</a:t>
            </a:r>
            <a:endParaRPr b="0" lang="en-US" sz="2400" spc="1" strike="noStrike">
              <a:ln cap="sq"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1755000" y="4800600"/>
            <a:ext cx="34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Jobs request rec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Quo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ustom Packaged Pric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eporting: Stats, Trends, SLAs, 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ite records, Maintenance records, Audi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Network diagrams, As-builts,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sset Records, Inventory Rec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708600">
            <a:off x="2855880" y="3746520"/>
            <a:ext cx="2035080" cy="379440"/>
          </a:xfrm>
          <a:prstGeom prst="lightningBolt">
            <a:avLst/>
          </a:prstGeom>
          <a:solidFill>
            <a:srgbClr val="6397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4160" y="23623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 Narrow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 Narrow"/>
              </a:rPr>
              <a:t>Acces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47480" y="243828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B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usiness 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2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B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usines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3962520"/>
            <a:ext cx="1752480" cy="952560"/>
            <a:chOff x="457200" y="3962520"/>
            <a:chExt cx="1752480" cy="952560"/>
          </a:xfrm>
        </p:grpSpPr>
        <p:pic>
          <p:nvPicPr>
            <p:cNvPr id="271" name="" descr=""/>
            <p:cNvPicPr/>
            <p:nvPr/>
          </p:nvPicPr>
          <p:blipFill>
            <a:blip r:embed="rId9"/>
            <a:stretch/>
          </p:blipFill>
          <p:spPr>
            <a:xfrm>
              <a:off x="457200" y="396252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282680" y="433692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1373040" y="432108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2640" y="467676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46483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788400">
              <a:off x="1190160" y="431928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6800" y="429732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36400" y="433692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4280" y="432108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ServicePoint’ target marketplace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676520"/>
            <a:ext cx="7086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Narrow"/>
              </a:rPr>
              <a:t>50 to 5,000 staff, 1 to many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entral government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tate-owned enterp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ocal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anks &amp; Financial 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surance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edical frater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nergy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fessional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perty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in enterprises, eg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Hotels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tail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ole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3429000"/>
            <a:ext cx="1752480" cy="952560"/>
            <a:chOff x="457200" y="3429000"/>
            <a:chExt cx="1752480" cy="95256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457200" y="342900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282680" y="3803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373040" y="3787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52640" y="4143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6680" y="4114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788400">
              <a:off x="1190160" y="3785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6800" y="3763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536400" y="3803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14280" y="3787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ServicePoint’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Differentiators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deServe is a national services compan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re proven experts at delivering quality servi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re specialists in dealing with trades suppliers and service provid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pply these to take responsibility for ensuring your assets and infrastructure are continuously optimised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make it happen on time and let you get on with your core business activit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391520" y="5905440"/>
            <a:ext cx="1752480" cy="952560"/>
            <a:chOff x="7391520" y="5905440"/>
            <a:chExt cx="1752480" cy="95256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7391520" y="590544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217000" y="627984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8307360" y="626400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86960" y="661968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01000" y="659124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788400">
              <a:off x="8124480" y="626220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31120" y="624024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7470720" y="627984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48600" y="626400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US" sz="5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’</a:t>
            </a:r>
            <a:br>
              <a:rPr sz="5400"/>
            </a:b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A service desk solution from IndeServe</a:t>
            </a:r>
            <a:endParaRPr b="0" lang="en-US" sz="20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3962160"/>
          </a:xfrm>
          <a:prstGeom prst="rect">
            <a:avLst/>
          </a:prstGeom>
          <a:solidFill>
            <a:srgbClr val="8888e2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003366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sert Product Photograph Her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6" name="CIRCUITB" descr=""/>
          <p:cNvPicPr/>
          <p:nvPr/>
        </p:nvPicPr>
        <p:blipFill>
          <a:blip r:embed="rId1"/>
          <a:stretch/>
        </p:blipFill>
        <p:spPr>
          <a:xfrm flipH="1" rot="10800000">
            <a:off x="1828800" y="1904760"/>
            <a:ext cx="7162920" cy="4890960"/>
          </a:xfrm>
          <a:prstGeom prst="rect">
            <a:avLst/>
          </a:prstGeom>
          <a:ln w="0">
            <a:noFill/>
          </a:ln>
        </p:spPr>
      </p:pic>
      <p:pic>
        <p:nvPicPr>
          <p:cNvPr id="307" name="DESK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244600" cy="2743200"/>
          </a:xfrm>
          <a:prstGeom prst="rect">
            <a:avLst/>
          </a:prstGeom>
          <a:ln w="0">
            <a:noFill/>
          </a:ln>
        </p:spPr>
      </p:pic>
      <p:pic>
        <p:nvPicPr>
          <p:cNvPr id="308" name="VAN" descr=""/>
          <p:cNvPicPr/>
          <p:nvPr/>
        </p:nvPicPr>
        <p:blipFill>
          <a:blip r:embed="rId3"/>
          <a:srcRect l="0" t="9089" r="0" b="22732"/>
          <a:stretch/>
        </p:blipFill>
        <p:spPr>
          <a:xfrm>
            <a:off x="5486400" y="3886200"/>
            <a:ext cx="2895480" cy="2414520"/>
          </a:xfrm>
          <a:prstGeom prst="rect">
            <a:avLst/>
          </a:prstGeom>
          <a:ln w="0">
            <a:noFill/>
          </a:ln>
        </p:spPr>
      </p:pic>
      <p:pic>
        <p:nvPicPr>
          <p:cNvPr id="309" name="SCREWDRI" descr=""/>
          <p:cNvPicPr/>
          <p:nvPr/>
        </p:nvPicPr>
        <p:blipFill>
          <a:blip r:embed="rId4"/>
          <a:stretch/>
        </p:blipFill>
        <p:spPr>
          <a:xfrm>
            <a:off x="2133720" y="2133720"/>
            <a:ext cx="2600280" cy="2971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362320" y="2514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533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KEYBOARD" descr=""/>
          <p:cNvPicPr/>
          <p:nvPr/>
        </p:nvPicPr>
        <p:blipFill>
          <a:blip r:embed="rId5"/>
          <a:srcRect l="0" t="0" r="0" b="15998"/>
          <a:stretch/>
        </p:blipFill>
        <p:spPr>
          <a:xfrm>
            <a:off x="2971800" y="3657600"/>
            <a:ext cx="2570040" cy="2971800"/>
          </a:xfrm>
          <a:prstGeom prst="rect">
            <a:avLst/>
          </a:prstGeom>
          <a:ln w="0">
            <a:noFill/>
          </a:ln>
        </p:spPr>
      </p:pic>
      <p:pic>
        <p:nvPicPr>
          <p:cNvPr id="313" name="WINDOW" descr=""/>
          <p:cNvPicPr/>
          <p:nvPr/>
        </p:nvPicPr>
        <p:blipFill>
          <a:blip r:embed="rId6"/>
          <a:srcRect l="0" t="0" r="0" b="29632"/>
          <a:stretch/>
        </p:blipFill>
        <p:spPr>
          <a:xfrm>
            <a:off x="0" y="0"/>
            <a:ext cx="2971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2:14:40Z</dcterms:created>
  <dc:creator>JohnF</dc:creator>
  <dc:description/>
  <dc:language>en-US</dc:language>
  <cp:lastModifiedBy>JohnF</cp:lastModifiedBy>
  <cp:lastPrinted>2003-11-28T23:29:17Z</cp:lastPrinted>
  <dcterms:modified xsi:type="dcterms:W3CDTF">2006-08-11T01:48:39Z</dcterms:modified>
  <cp:revision>185</cp:revision>
  <dc:subject/>
  <dc:title>[Product Name]</dc:title>
</cp:coreProperties>
</file>