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CDE-C670-40A1-B1D5-02CFF7A2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0" y="4268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375-99C7-4C0C-8D17-5278051C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6596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514-BD7C-4B07-A389-ADEA602F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4996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1428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4996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1428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FF8-7FB9-4EF3-96C9-BBA63ED3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2CD0-6F61-4ACD-84F6-B7BD8126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8340-3220-45D3-9492-718E3671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601F-D207-44AB-BECE-D2A46850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EB30-0E0E-44EB-9EA4-20B68438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914D3-B678-4EE9-BD3A-920F51B8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00040" y="380520"/>
            <a:ext cx="579132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7855-51C8-4181-916E-1FB749F6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F070-313D-4333-9FD4-D9DD2D28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CAC2-523F-4776-8D8D-EB9EAB0F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56596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F8FF-8851-40D3-AFA1-5F709796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DCD4-A854-42A3-9AAD-93613807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286000" y="4268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1A29-BC27-429E-B36F-E0BEE553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56596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D02B-B5D2-4B8D-A955-D41D2307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4996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14280" y="335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28600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44996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14280" y="4268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C0FE-0BF4-4DF6-8D03-1CFB932A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006-72E4-4D4C-B51D-51677E41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E33-73BC-47F3-854B-0CBB093F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1406-DB71-43DA-BEF3-0A19186D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00040" y="380520"/>
            <a:ext cx="579132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858-10F8-453B-8F58-9D78CFA5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00F-3520-4B2F-BAA4-A989F36A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65960" y="4268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415-E1E9-4EE0-9BA9-9DA43631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65960" y="335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0" y="4268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418-F93E-46F6-BC03-7C35E7ED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Scribble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98072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82700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668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3C5A-94EA-4493-AB76-123456C78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76520" y="1752480"/>
            <a:ext cx="7466040" cy="5104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81120" y="1743120"/>
            <a:ext cx="95400" cy="5113440"/>
          </a:xfrm>
          <a:prstGeom prst="rect">
            <a:avLst/>
          </a:prstGeom>
          <a:solidFill>
            <a:srgbClr val="6397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81120" y="1743120"/>
            <a:ext cx="7580520" cy="95040"/>
          </a:xfrm>
          <a:prstGeom prst="rect">
            <a:avLst/>
          </a:prstGeom>
          <a:solidFill>
            <a:srgbClr val="6397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76312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1752480"/>
            <a:ext cx="379440" cy="7632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89040" y="190656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89040" y="266868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89040" y="343044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89040" y="419256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89040" y="495468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89040" y="571644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89040" y="6478560"/>
            <a:ext cx="76320" cy="379440"/>
          </a:xfrm>
          <a:prstGeom prst="rect">
            <a:avLst/>
          </a:prstGeom>
          <a:solidFill>
            <a:srgbClr val="867a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000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Scribble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182700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403668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69E4-1057-4555-9354-1D7D4A640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3048120" cy="2133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440" y="2084400"/>
            <a:ext cx="3052800" cy="48960"/>
            <a:chOff x="1440" y="2084400"/>
            <a:chExt cx="3052800" cy="48960"/>
          </a:xfrm>
        </p:grpSpPr>
        <p:sp>
          <p:nvSpPr>
            <p:cNvPr id="68" name=""/>
            <p:cNvSpPr/>
            <p:nvPr/>
          </p:nvSpPr>
          <p:spPr>
            <a:xfrm>
              <a:off x="1440" y="2084400"/>
              <a:ext cx="3052800" cy="48960"/>
            </a:xfrm>
            <a:prstGeom prst="rect">
              <a:avLst/>
            </a:pr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360" y="2095920"/>
              <a:ext cx="15264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6080" y="2095920"/>
              <a:ext cx="1522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2440" y="2095920"/>
              <a:ext cx="15372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30240" y="2095920"/>
              <a:ext cx="1522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36600" y="2095920"/>
              <a:ext cx="15264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2960" y="2095920"/>
              <a:ext cx="15264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49320" y="2095920"/>
              <a:ext cx="1540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57480" y="2095920"/>
              <a:ext cx="1522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63840" y="2095920"/>
              <a:ext cx="1522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70200" y="2095920"/>
              <a:ext cx="152280" cy="327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014640" y="0"/>
            <a:ext cx="42840" cy="2131560"/>
            <a:chOff x="3014640" y="0"/>
            <a:chExt cx="42840" cy="2131560"/>
          </a:xfrm>
        </p:grpSpPr>
        <p:sp>
          <p:nvSpPr>
            <p:cNvPr id="80" name=""/>
            <p:cNvSpPr/>
            <p:nvPr/>
          </p:nvSpPr>
          <p:spPr>
            <a:xfrm>
              <a:off x="3014640" y="0"/>
              <a:ext cx="42840" cy="2131560"/>
            </a:xfrm>
            <a:prstGeom prst="rect">
              <a:avLst/>
            </a:pr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16080" y="1967040"/>
              <a:ext cx="30240" cy="15768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16080" y="1649520"/>
              <a:ext cx="30240" cy="15768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16080" y="1331280"/>
              <a:ext cx="30240" cy="15804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16080" y="1013760"/>
              <a:ext cx="30240" cy="15804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16080" y="695880"/>
              <a:ext cx="30240" cy="15804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16080" y="378360"/>
              <a:ext cx="30240" cy="15804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16080" y="60840"/>
              <a:ext cx="30240" cy="15768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Your Log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2286000" y="2362320"/>
            <a:ext cx="6400800" cy="3962160"/>
          </a:xfrm>
          <a:prstGeom prst="rect">
            <a:avLst/>
          </a:prstGeom>
          <a:solidFill>
            <a:srgbClr val="8888e2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003366"/>
            </a:outerShdw>
          </a:effectLst>
        </p:spPr>
        <p:txBody>
          <a:bodyPr lIns="92160" rIns="92160" tIns="46080" bIns="4608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sert Product Photograph Her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7" name="CIRCUITB" descr=""/>
          <p:cNvPicPr/>
          <p:nvPr/>
        </p:nvPicPr>
        <p:blipFill>
          <a:blip r:embed="rId1"/>
          <a:stretch/>
        </p:blipFill>
        <p:spPr>
          <a:xfrm flipH="1" rot="10800000">
            <a:off x="1828800" y="1904760"/>
            <a:ext cx="7162920" cy="4890960"/>
          </a:xfrm>
          <a:prstGeom prst="rect">
            <a:avLst/>
          </a:prstGeom>
          <a:ln w="0">
            <a:noFill/>
          </a:ln>
        </p:spPr>
      </p:pic>
      <p:pic>
        <p:nvPicPr>
          <p:cNvPr id="128" name="DESK" descr=""/>
          <p:cNvPicPr/>
          <p:nvPr/>
        </p:nvPicPr>
        <p:blipFill>
          <a:blip r:embed="rId2"/>
          <a:stretch/>
        </p:blipFill>
        <p:spPr>
          <a:xfrm>
            <a:off x="6477120" y="2133720"/>
            <a:ext cx="224460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VAN" descr=""/>
          <p:cNvPicPr/>
          <p:nvPr/>
        </p:nvPicPr>
        <p:blipFill>
          <a:blip r:embed="rId3"/>
          <a:srcRect l="0" t="9089" r="0" b="22732"/>
          <a:stretch/>
        </p:blipFill>
        <p:spPr>
          <a:xfrm>
            <a:off x="5486400" y="3886200"/>
            <a:ext cx="2895480" cy="2414520"/>
          </a:xfrm>
          <a:prstGeom prst="rect">
            <a:avLst/>
          </a:prstGeom>
          <a:ln w="0">
            <a:noFill/>
          </a:ln>
        </p:spPr>
      </p:pic>
      <p:pic>
        <p:nvPicPr>
          <p:cNvPr id="130" name="SCREWDRI" descr=""/>
          <p:cNvPicPr/>
          <p:nvPr/>
        </p:nvPicPr>
        <p:blipFill>
          <a:blip r:embed="rId4"/>
          <a:stretch/>
        </p:blipFill>
        <p:spPr>
          <a:xfrm>
            <a:off x="2133720" y="2133720"/>
            <a:ext cx="2600280" cy="2971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362320" y="25146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533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KEYBOARD" descr=""/>
          <p:cNvPicPr/>
          <p:nvPr/>
        </p:nvPicPr>
        <p:blipFill>
          <a:blip r:embed="rId5"/>
          <a:srcRect l="0" t="0" r="0" b="15998"/>
          <a:stretch/>
        </p:blipFill>
        <p:spPr>
          <a:xfrm>
            <a:off x="2971800" y="3657600"/>
            <a:ext cx="2570040" cy="2971800"/>
          </a:xfrm>
          <a:prstGeom prst="rect">
            <a:avLst/>
          </a:prstGeom>
          <a:ln w="0">
            <a:noFill/>
          </a:ln>
        </p:spPr>
      </p:pic>
      <p:pic>
        <p:nvPicPr>
          <p:cNvPr id="134" name="WINDOW" descr=""/>
          <p:cNvPicPr/>
          <p:nvPr/>
        </p:nvPicPr>
        <p:blipFill>
          <a:blip r:embed="rId6"/>
          <a:srcRect l="0" t="0" r="0" b="29632"/>
          <a:stretch/>
        </p:blipFill>
        <p:spPr>
          <a:xfrm>
            <a:off x="0" y="0"/>
            <a:ext cx="2971800" cy="2006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191120" y="30456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‘</a:t>
            </a: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Service</a:t>
            </a:r>
            <a:r>
              <a:rPr b="0" i="1" lang="en-US" sz="5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’</a:t>
            </a:r>
            <a:br>
              <a:rPr sz="5400"/>
            </a:br>
            <a:r>
              <a:rPr b="0" lang="en-US" sz="2000" spc="-1" strike="noStrike">
                <a:solidFill>
                  <a:srgbClr val="990000"/>
                </a:solidFill>
                <a:latin typeface="Arial Narrow"/>
              </a:rPr>
              <a:t>A service desk solution from IndeServe</a:t>
            </a:r>
            <a:endParaRPr b="0" lang="en-US" sz="2000" spc="-1" strike="noStrike">
              <a:solidFill>
                <a:srgbClr val="990000"/>
              </a:solidFill>
              <a:latin typeface="Scribb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057400" y="3276720"/>
            <a:ext cx="50292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‘</a:t>
            </a: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SERVICE</a:t>
            </a:r>
            <a:r>
              <a:rPr b="0" i="1" lang="en-GB" sz="4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i="1" lang="en-NZ" sz="4400" spc="-1" strike="noStrike">
                <a:solidFill>
                  <a:srgbClr val="990000"/>
                </a:solidFill>
                <a:latin typeface="Arial Narrow"/>
              </a:rPr>
              <a:t>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990000"/>
                </a:solidFill>
                <a:latin typeface="Arial Narrow"/>
              </a:rPr>
              <a:t>APPLICATION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4864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 Narrow"/>
              </a:rPr>
              <a:t>New Zealand’s leading service desk ‘request</a:t>
            </a:r>
            <a:r>
              <a:rPr b="0" i="1" lang="en-NZ" sz="2200" spc="-1" strike="noStrike">
                <a:solidFill>
                  <a:srgbClr val="000000"/>
                </a:solidFill>
                <a:latin typeface="Arial Narrow"/>
              </a:rPr>
              <a:t> t</a:t>
            </a:r>
            <a:r>
              <a:rPr b="0" i="1" lang="en-GB" sz="22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0" i="1" lang="en-NZ" sz="2200" spc="-1" strike="noStrike">
                <a:solidFill>
                  <a:srgbClr val="000000"/>
                </a:solidFill>
                <a:latin typeface="Arial Narrow"/>
              </a:rPr>
              <a:t> completion’ </a:t>
            </a:r>
            <a:r>
              <a:rPr b="0" i="1" lang="en-GB" sz="2200" spc="-1" strike="noStrike">
                <a:solidFill>
                  <a:srgbClr val="000000"/>
                </a:solidFill>
                <a:latin typeface="Arial Narrow"/>
              </a:rPr>
              <a:t>management solution</a:t>
            </a:r>
            <a:r>
              <a:rPr b="0" lang="en-GB" sz="2200" spc="-1" strike="noStrike">
                <a:solidFill>
                  <a:srgbClr val="000000"/>
                </a:solidFill>
                <a:latin typeface="Arial Narrow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971800" y="914400"/>
            <a:ext cx="3733200" cy="2028240"/>
            <a:chOff x="2971800" y="914400"/>
            <a:chExt cx="3733200" cy="20282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2971800" y="914400"/>
              <a:ext cx="3307680" cy="202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730400" y="1711440"/>
              <a:ext cx="1508400" cy="63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922640" y="1677960"/>
              <a:ext cx="1231560" cy="67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40080" y="2435400"/>
              <a:ext cx="631800" cy="36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9960" y="2374560"/>
              <a:ext cx="24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788400">
              <a:off x="4533480" y="1674720"/>
              <a:ext cx="297360" cy="127800"/>
            </a:xfrm>
            <a:prstGeom prst="parallelogram">
              <a:avLst>
                <a:gd name="adj" fmla="val 58169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6040" y="1627200"/>
              <a:ext cx="1782360" cy="7196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3140280" y="1711440"/>
              <a:ext cx="1613520" cy="551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84600" y="1677960"/>
              <a:ext cx="40320" cy="40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 Narrow"/>
              </a:rPr>
              <a:t>A </a:t>
            </a:r>
            <a:r>
              <a:rPr b="0" lang="en-US" sz="4400" spc="-1" strike="noStrike" u="sng">
                <a:solidFill>
                  <a:srgbClr val="990000"/>
                </a:solidFill>
                <a:uFillTx/>
                <a:latin typeface="Arial Narrow"/>
              </a:rPr>
              <a:t>complete</a:t>
            </a:r>
            <a:r>
              <a:rPr b="0" lang="en-US" sz="4400" spc="-1" strike="noStrike">
                <a:solidFill>
                  <a:srgbClr val="990000"/>
                </a:solidFill>
                <a:latin typeface="Arial Narrow"/>
              </a:rPr>
              <a:t> service desk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Arial Narrow"/>
              </a:rPr>
              <a:t>application suite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A tried and tested, feature rich, mat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Narrow"/>
              </a:rPr>
              <a:t>MANAGED SERVICES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lnSpc>
                <a:spcPct val="90000"/>
              </a:lnSpc>
              <a:spcBef>
                <a:spcPts val="751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ploys powerful web-based applications and software tools -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E Service Sui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lnSpc>
                <a:spcPct val="90000"/>
              </a:lnSpc>
              <a:spcBef>
                <a:spcPts val="751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sed on in-house application developments by our data management tea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lnSpc>
                <a:spcPct val="90000"/>
              </a:lnSpc>
              <a:spcBef>
                <a:spcPts val="751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en, efficient documented processes for all “request to completion” service job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lnSpc>
                <a:spcPct val="90000"/>
              </a:lnSpc>
              <a:spcBef>
                <a:spcPts val="751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ained and experienced operational personnel and technician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72960" indent="-372960">
              <a:lnSpc>
                <a:spcPct val="90000"/>
              </a:lnSpc>
              <a:spcBef>
                <a:spcPts val="751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s latest computer and communications technolog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0"/>
            <a:ext cx="1752480" cy="952560"/>
            <a:chOff x="0" y="0"/>
            <a:chExt cx="1752480" cy="95256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25480" y="37440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915840" y="35856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5440" y="71424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9480" y="68580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788400">
              <a:off x="732960" y="35676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600" y="33480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79200" y="37440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7080" y="35856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5486400"/>
            <a:ext cx="8534160" cy="129528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50000">
                <a:srgbClr val="ffffff"/>
              </a:gs>
              <a:gs pos="100000">
                <a:srgbClr val="6397cb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114800"/>
            <a:ext cx="8534160" cy="129528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50000">
                <a:srgbClr val="ffffff"/>
              </a:gs>
              <a:gs pos="100000">
                <a:srgbClr val="6397cb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90000"/>
                </a:solidFill>
                <a:latin typeface="Scribble"/>
              </a:rPr>
              <a:t>‘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Service</a:t>
            </a:r>
            <a:r>
              <a:rPr b="0" i="1" lang="en-NZ" sz="4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’</a:t>
            </a: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 Deployment 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Models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3137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An </a:t>
            </a:r>
            <a:r>
              <a:rPr b="0" lang="en-NZ" sz="2800" spc="-1" strike="noStrike">
                <a:solidFill>
                  <a:srgbClr val="990000"/>
                </a:solidFill>
                <a:latin typeface="Arial Narrow"/>
              </a:rPr>
              <a:t>ASP solution 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you operate all aspects of the system, hosted by IndeServ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en-GB" sz="2800" spc="-1" strike="noStrike">
                <a:solidFill>
                  <a:srgbClr val="990000"/>
                </a:solidFill>
                <a:latin typeface="Arial Narrow"/>
              </a:rPr>
              <a:t>Outsourced solution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IndeServe personnel provide a fully management service, with full access by your Authorised Us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0" y="5562720"/>
            <a:ext cx="1116000" cy="1143000"/>
            <a:chOff x="6858000" y="5562720"/>
            <a:chExt cx="1116000" cy="1143000"/>
          </a:xfrm>
        </p:grpSpPr>
        <p:grpSp>
          <p:nvGrpSpPr>
            <p:cNvPr id="165" name=""/>
            <p:cNvGrpSpPr/>
            <p:nvPr/>
          </p:nvGrpSpPr>
          <p:grpSpPr>
            <a:xfrm>
              <a:off x="6934320" y="6095880"/>
              <a:ext cx="761400" cy="598680"/>
              <a:chOff x="6934320" y="6095880"/>
              <a:chExt cx="761400" cy="598680"/>
            </a:xfrm>
          </p:grpSpPr>
          <p:pic>
            <p:nvPicPr>
              <p:cNvPr id="1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156440" y="6095880"/>
                <a:ext cx="285480" cy="23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346880" y="6166440"/>
                <a:ext cx="348840" cy="2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5200" y="6415200"/>
                <a:ext cx="33336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6934320" y="6272640"/>
                <a:ext cx="380880" cy="319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"/>
            <p:cNvSpPr/>
            <p:nvPr/>
          </p:nvSpPr>
          <p:spPr>
            <a:xfrm>
              <a:off x="6858000" y="5562720"/>
              <a:ext cx="1066680" cy="11430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58000" y="5562720"/>
              <a:ext cx="11160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IndeServe National</a:t>
              </a:r>
              <a:br>
                <a:rPr sz="1000"/>
              </a:b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Service Cent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pera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057400" y="4191120"/>
            <a:ext cx="1066680" cy="1143000"/>
            <a:chOff x="2057400" y="4191120"/>
            <a:chExt cx="1066680" cy="1143000"/>
          </a:xfrm>
        </p:grpSpPr>
        <p:grpSp>
          <p:nvGrpSpPr>
            <p:cNvPr id="173" name=""/>
            <p:cNvGrpSpPr/>
            <p:nvPr/>
          </p:nvGrpSpPr>
          <p:grpSpPr>
            <a:xfrm>
              <a:off x="2209680" y="4724640"/>
              <a:ext cx="762120" cy="597960"/>
              <a:chOff x="2209680" y="4724640"/>
              <a:chExt cx="762120" cy="597960"/>
            </a:xfrm>
          </p:grpSpPr>
          <p:pic>
            <p:nvPicPr>
              <p:cNvPr id="1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1800" y="4724640"/>
                <a:ext cx="285840" cy="23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622600" y="4795200"/>
                <a:ext cx="349200" cy="2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590560" y="5043600"/>
                <a:ext cx="333360" cy="27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8"/>
              <a:stretch/>
            </p:blipFill>
            <p:spPr>
              <a:xfrm flipH="1" rot="10800000">
                <a:off x="2209680" y="4901760"/>
                <a:ext cx="38088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"/>
            <p:cNvSpPr/>
            <p:nvPr/>
          </p:nvSpPr>
          <p:spPr>
            <a:xfrm>
              <a:off x="2057400" y="4191120"/>
              <a:ext cx="1066680" cy="11430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57400" y="4191120"/>
              <a:ext cx="106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rganisation’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Authorised Us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057400" y="5562720"/>
            <a:ext cx="1066680" cy="1143000"/>
            <a:chOff x="2057400" y="5562720"/>
            <a:chExt cx="1066680" cy="1143000"/>
          </a:xfrm>
        </p:grpSpPr>
        <p:grpSp>
          <p:nvGrpSpPr>
            <p:cNvPr id="181" name=""/>
            <p:cNvGrpSpPr/>
            <p:nvPr/>
          </p:nvGrpSpPr>
          <p:grpSpPr>
            <a:xfrm>
              <a:off x="2209680" y="6096240"/>
              <a:ext cx="762120" cy="597960"/>
              <a:chOff x="2209680" y="6096240"/>
              <a:chExt cx="762120" cy="597960"/>
            </a:xfrm>
          </p:grpSpPr>
          <p:pic>
            <p:nvPicPr>
              <p:cNvPr id="18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431800" y="6096240"/>
                <a:ext cx="285840" cy="23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622600" y="6166800"/>
                <a:ext cx="349200" cy="2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590560" y="6415200"/>
                <a:ext cx="333360" cy="27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2"/>
              <a:stretch/>
            </p:blipFill>
            <p:spPr>
              <a:xfrm flipH="1" rot="10800000">
                <a:off x="2209680" y="6273360"/>
                <a:ext cx="38088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6" name=""/>
            <p:cNvSpPr/>
            <p:nvPr/>
          </p:nvSpPr>
          <p:spPr>
            <a:xfrm>
              <a:off x="2057400" y="5562720"/>
              <a:ext cx="1066680" cy="11430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57400" y="5562720"/>
              <a:ext cx="106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rganisation’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Authorised Us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800600" y="4343400"/>
            <a:ext cx="838080" cy="762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Hos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nd datab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5867280"/>
            <a:ext cx="838080" cy="762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Hos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nd datab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638320" y="6400800"/>
            <a:ext cx="12193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123720" y="6400800"/>
            <a:ext cx="1676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78960" y="6383160"/>
            <a:ext cx="117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Enquiries, report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ccess to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7240" y="6400800"/>
            <a:ext cx="123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Request to Comple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124080" y="5715000"/>
            <a:ext cx="3733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86080" y="5486400"/>
            <a:ext cx="205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Performance management and repor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4724280"/>
            <a:ext cx="1676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3760" y="4724280"/>
            <a:ext cx="117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Enquiries, report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Access to infom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1240" y="4343400"/>
            <a:ext cx="123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Request to Comple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4280" y="457200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 Narrow"/>
              </a:rPr>
              <a:t>A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1240" y="594360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 Narrow"/>
              </a:rPr>
              <a:t>OUTSOUR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391520" y="1981080"/>
            <a:ext cx="1752480" cy="952560"/>
            <a:chOff x="7391520" y="1981080"/>
            <a:chExt cx="1752480" cy="952560"/>
          </a:xfrm>
        </p:grpSpPr>
        <p:pic>
          <p:nvPicPr>
            <p:cNvPr id="202" name="" descr=""/>
            <p:cNvPicPr/>
            <p:nvPr/>
          </p:nvPicPr>
          <p:blipFill>
            <a:blip r:embed="rId13"/>
            <a:stretch/>
          </p:blipFill>
          <p:spPr>
            <a:xfrm>
              <a:off x="7391520" y="198108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217000" y="235548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8307360" y="233964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86960" y="269532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01000" y="266688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788400">
              <a:off x="8124480" y="233784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1120" y="231588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7470720" y="235548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48600" y="233964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Clicking on to 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‘Service</a:t>
            </a:r>
            <a:r>
              <a:rPr b="0" i="1" lang="en-NZ" sz="4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’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057400"/>
            <a:ext cx="3047760" cy="441972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3048120"/>
            <a:ext cx="243864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397cb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1st level trained operator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Technology, Loca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Processes,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24/7 Request To Comple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ervice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4191120"/>
            <a:ext cx="243864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397cb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E Service Su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Web applications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customer online request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purchasing, tr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and retrie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5334120"/>
            <a:ext cx="243864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397cb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Customer Sub-we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Document storage &amp; retrie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Online asset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133720"/>
            <a:ext cx="312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IndeServe</a:t>
            </a:r>
            <a:r>
              <a:rPr b="1" lang="en-NZ" sz="1600" spc="-1" strike="noStrike">
                <a:solidFill>
                  <a:srgbClr val="990000"/>
                </a:solidFill>
                <a:latin typeface="Arial"/>
              </a:rPr>
              <a:t>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National Service Cen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0" i="1" lang="en-NZ" sz="1600" spc="-1" strike="noStrike">
                <a:solidFill>
                  <a:srgbClr val="000000"/>
                </a:solidFill>
                <a:latin typeface="Arial"/>
              </a:rPr>
              <a:t>Outsourced ‘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ervice Desk</a:t>
            </a:r>
            <a:r>
              <a:rPr b="0" i="1" lang="en-NZ" sz="1600" spc="-1" strike="noStrike">
                <a:solidFill>
                  <a:srgbClr val="000000"/>
                </a:solidFill>
                <a:latin typeface="Arial"/>
              </a:rPr>
              <a:t>’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1981080"/>
            <a:ext cx="1143000" cy="60984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2438280"/>
            <a:ext cx="1143000" cy="60984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2743200"/>
            <a:ext cx="1143000" cy="60948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05120" y="335268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3657600"/>
            <a:ext cx="1676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3733920"/>
            <a:ext cx="2743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ssword-secure Web A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lephone, Email or Fax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RVICE REQUESTS, PURCHASES, QUOTATIONS, TRACKING, REPORTING, INFORMATION RETRIE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724280"/>
            <a:ext cx="1676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472428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2057400"/>
            <a:ext cx="914400" cy="441972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91520" y="2057400"/>
            <a:ext cx="914400" cy="441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397c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77120" y="2057400"/>
            <a:ext cx="1828800" cy="4419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89360" y="205740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Arial Narrow"/>
              </a:rPr>
              <a:t>2ND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24200" y="205740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Arial Narrow"/>
              </a:rPr>
              <a:t>3RD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0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28320" y="2590920"/>
            <a:ext cx="1569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IndeServe Resol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and Fron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Technicians &amp; Engin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3rd Part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Suppl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4038480"/>
            <a:ext cx="156672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00"/>
                </a:solidFill>
                <a:latin typeface="Arial Narrow"/>
              </a:rPr>
              <a:t>FACILITY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Information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Tele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Cabling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Electrical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Powe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Air Condit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Heating &amp; Venti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Building 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181480"/>
            <a:ext cx="1143000" cy="60984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5638680"/>
            <a:ext cx="1143000" cy="60984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4952880"/>
            <a:ext cx="1143000" cy="609840"/>
          </a:xfrm>
          <a:prstGeom prst="rect">
            <a:avLst/>
          </a:prstGeom>
          <a:gradFill rotWithShape="0">
            <a:gsLst>
              <a:gs pos="0">
                <a:srgbClr val="6397c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19112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2590920"/>
            <a:ext cx="1676520" cy="1371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4038480"/>
            <a:ext cx="1676520" cy="2362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0" y="0"/>
            <a:ext cx="1752480" cy="952560"/>
            <a:chOff x="0" y="0"/>
            <a:chExt cx="1752480" cy="95256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25480" y="37440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915840" y="35856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5440" y="71424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9480" y="68580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788400">
              <a:off x="732960" y="35676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600" y="33480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79200" y="37440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7080" y="35856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Easy Access! Single </a:t>
            </a:r>
            <a:r>
              <a:rPr b="1" lang="en-GB" sz="4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 of contact, Single </a:t>
            </a:r>
            <a:r>
              <a:rPr b="1" lang="en-GB" sz="4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 of control!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90720" y="1828800"/>
            <a:ext cx="2361600" cy="1809360"/>
            <a:chOff x="990720" y="1828800"/>
            <a:chExt cx="2361600" cy="180936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1694160" y="1828800"/>
              <a:ext cx="904320" cy="74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2246760" y="1994400"/>
              <a:ext cx="1105560" cy="9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2146320" y="2768040"/>
              <a:ext cx="1055160" cy="87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990720" y="2380680"/>
              <a:ext cx="1206000" cy="99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/>
          <p:cNvSpPr/>
          <p:nvPr/>
        </p:nvSpPr>
        <p:spPr>
          <a:xfrm rot="11823600">
            <a:off x="3502800" y="3352680"/>
            <a:ext cx="2220840" cy="657360"/>
          </a:xfrm>
          <a:prstGeom prst="lightningBolt">
            <a:avLst/>
          </a:prstGeom>
          <a:solidFill>
            <a:srgbClr val="6397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3124080"/>
            <a:ext cx="3124440" cy="3353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4267080"/>
            <a:ext cx="1447560" cy="2210040"/>
          </a:xfrm>
          <a:prstGeom prst="flowChartMagneticDisk">
            <a:avLst/>
          </a:prstGeom>
          <a:gradFill rotWithShape="0">
            <a:gsLst>
              <a:gs pos="0">
                <a:srgbClr val="6397cb"/>
              </a:gs>
              <a:gs pos="50000">
                <a:srgbClr val="ffffff"/>
              </a:gs>
              <a:gs pos="100000">
                <a:srgbClr val="6397cb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943600" y="3581280"/>
            <a:ext cx="1828800" cy="1285920"/>
            <a:chOff x="5943600" y="3581280"/>
            <a:chExt cx="1828800" cy="1285920"/>
          </a:xfrm>
        </p:grpSpPr>
        <p:pic>
          <p:nvPicPr>
            <p:cNvPr id="259" name="" descr=""/>
            <p:cNvPicPr/>
            <p:nvPr/>
          </p:nvPicPr>
          <p:blipFill>
            <a:blip r:embed="rId5"/>
            <a:stretch/>
          </p:blipFill>
          <p:spPr>
            <a:xfrm>
              <a:off x="6477120" y="3581280"/>
              <a:ext cx="685800" cy="51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6"/>
            <a:stretch/>
          </p:blipFill>
          <p:spPr>
            <a:xfrm>
              <a:off x="6934320" y="3733560"/>
              <a:ext cx="83808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7"/>
            <a:stretch/>
          </p:blipFill>
          <p:spPr>
            <a:xfrm>
              <a:off x="6858000" y="4267080"/>
              <a:ext cx="80028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8"/>
            <a:stretch/>
          </p:blipFill>
          <p:spPr>
            <a:xfrm flipH="1" rot="10800000">
              <a:off x="5943600" y="3961800"/>
              <a:ext cx="9144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/>
          <p:nvPr/>
        </p:nvSpPr>
        <p:spPr>
          <a:xfrm>
            <a:off x="5718600" y="4952880"/>
            <a:ext cx="259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1st level Resol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chedulers &amp; Resourc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2nd and 3rd level Resol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ervice Delivery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Database and Sub-web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Reporters and Draughts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57600" y="3182760"/>
            <a:ext cx="26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990000"/>
                </a:solidFill>
                <a:latin typeface="Arial Narrow"/>
              </a:rPr>
              <a:t>OUTSOURCED</a:t>
            </a:r>
            <a:r>
              <a:rPr b="1" lang="en-GB" sz="1600" spc="-1" strike="noStrike">
                <a:solidFill>
                  <a:srgbClr val="990000"/>
                </a:solidFill>
                <a:latin typeface="Arial Narrow"/>
              </a:rPr>
              <a:t> SERVICE </a:t>
            </a:r>
            <a:r>
              <a:rPr b="1" lang="en-NZ" sz="1600" spc="-1" strike="noStrike">
                <a:solidFill>
                  <a:srgbClr val="990000"/>
                </a:solidFill>
                <a:latin typeface="Arial Narrow"/>
              </a:rPr>
              <a:t>DE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 rot="2745000">
            <a:off x="4367880" y="4242240"/>
            <a:ext cx="723960" cy="7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latin typeface="Arial Black"/>
              </a:rPr>
              <a:t>Sub-web</a:t>
            </a:r>
            <a:endParaRPr b="0" lang="en-US" sz="2400" spc="1" strike="noStrike">
              <a:ln cap="sq"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266" name=""/>
          <p:cNvSpPr/>
          <p:nvPr/>
        </p:nvSpPr>
        <p:spPr>
          <a:xfrm>
            <a:off x="1755000" y="4800600"/>
            <a:ext cx="3492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Jobs request rec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Quo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Custom Packaged Price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Reporting: Stats, Trends, SLAs, 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ite records, Maintenance records, Audit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Network diagrams, As-builts, P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Asset Records, Inventory Rec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708600">
            <a:off x="2855880" y="3746520"/>
            <a:ext cx="2035080" cy="379440"/>
          </a:xfrm>
          <a:prstGeom prst="lightningBolt">
            <a:avLst/>
          </a:prstGeom>
          <a:solidFill>
            <a:srgbClr val="6397c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4160" y="23623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 Narrow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00"/>
                </a:solidFill>
                <a:latin typeface="Arial Narrow"/>
              </a:rPr>
              <a:t>Acces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47480" y="243828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990000"/>
                </a:solidFill>
                <a:latin typeface="Scribble"/>
              </a:rPr>
              <a:t>‘</a:t>
            </a:r>
            <a:r>
              <a:rPr b="0" lang="en-GB" sz="2800" spc="-1" strike="noStrike">
                <a:solidFill>
                  <a:srgbClr val="990000"/>
                </a:solidFill>
                <a:latin typeface="Scribble"/>
              </a:rPr>
              <a:t>B</a:t>
            </a:r>
            <a:r>
              <a:rPr b="0" lang="en-NZ" sz="2800" spc="-1" strike="noStrike">
                <a:solidFill>
                  <a:srgbClr val="990000"/>
                </a:solidFill>
                <a:latin typeface="Scribble"/>
              </a:rPr>
              <a:t>usiness </a:t>
            </a:r>
            <a:r>
              <a:rPr b="0" lang="en-GB" sz="2800" spc="-1" strike="noStrike">
                <a:solidFill>
                  <a:srgbClr val="990000"/>
                </a:solidFill>
                <a:latin typeface="Scribble"/>
              </a:rPr>
              <a:t>2</a:t>
            </a:r>
            <a:r>
              <a:rPr b="0" lang="en-NZ" sz="2800" spc="-1" strike="noStrike">
                <a:solidFill>
                  <a:srgbClr val="990000"/>
                </a:solidFill>
                <a:latin typeface="Scribble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Scribble"/>
              </a:rPr>
              <a:t>B</a:t>
            </a:r>
            <a:r>
              <a:rPr b="0" lang="en-NZ" sz="2800" spc="-1" strike="noStrike">
                <a:solidFill>
                  <a:srgbClr val="990000"/>
                </a:solidFill>
                <a:latin typeface="Scribble"/>
              </a:rPr>
              <a:t>usines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3962520"/>
            <a:ext cx="1752480" cy="952560"/>
            <a:chOff x="457200" y="3962520"/>
            <a:chExt cx="1752480" cy="952560"/>
          </a:xfrm>
        </p:grpSpPr>
        <p:pic>
          <p:nvPicPr>
            <p:cNvPr id="271" name="" descr=""/>
            <p:cNvPicPr/>
            <p:nvPr/>
          </p:nvPicPr>
          <p:blipFill>
            <a:blip r:embed="rId9"/>
            <a:stretch/>
          </p:blipFill>
          <p:spPr>
            <a:xfrm>
              <a:off x="457200" y="396252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282680" y="433692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1373040" y="432108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52640" y="467676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464832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788400">
              <a:off x="1190160" y="431928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6800" y="429732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536400" y="433692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4280" y="432108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 Narrow"/>
              </a:rPr>
              <a:t>‘</a:t>
            </a:r>
            <a:r>
              <a:rPr b="0" lang="en-US" sz="4400" spc="-1" strike="noStrike">
                <a:solidFill>
                  <a:srgbClr val="990000"/>
                </a:solidFill>
                <a:latin typeface="Arial Narrow"/>
              </a:rPr>
              <a:t>ServicePoint’ target marketplace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1676520"/>
            <a:ext cx="7086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 Narrow"/>
              </a:rPr>
              <a:t>50 to 5,000 staff, 1 to many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entral government depar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tate-owned enterpr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Local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Banks &amp; Financial 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nsurance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Medical frater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Energy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fessional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operty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hain enterprises, eg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Hotels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Retail</a:t>
            </a:r>
            <a:r>
              <a:rPr b="0" lang="en-NZ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holes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3429000"/>
            <a:ext cx="1752480" cy="952560"/>
            <a:chOff x="457200" y="3429000"/>
            <a:chExt cx="1752480" cy="952560"/>
          </a:xfrm>
        </p:grpSpPr>
        <p:pic>
          <p:nvPicPr>
            <p:cNvPr id="283" name="" descr=""/>
            <p:cNvPicPr/>
            <p:nvPr/>
          </p:nvPicPr>
          <p:blipFill>
            <a:blip r:embed="rId1"/>
            <a:stretch/>
          </p:blipFill>
          <p:spPr>
            <a:xfrm>
              <a:off x="457200" y="342900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282680" y="380340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1373040" y="378756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52640" y="414324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66680" y="411480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788400">
              <a:off x="1190160" y="378576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6800" y="376380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536400" y="380340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14280" y="378756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‘</a:t>
            </a:r>
            <a:r>
              <a:rPr b="0" lang="en-NZ" sz="4400" spc="-1" strike="noStrike">
                <a:solidFill>
                  <a:srgbClr val="990000"/>
                </a:solidFill>
                <a:latin typeface="Arial Narrow"/>
              </a:rPr>
              <a:t>ServicePoint’</a:t>
            </a:r>
            <a:r>
              <a:rPr b="0" lang="en-GB" sz="4400" spc="-1" strike="noStrike">
                <a:solidFill>
                  <a:srgbClr val="990000"/>
                </a:solidFill>
                <a:latin typeface="Arial Narrow"/>
              </a:rPr>
              <a:t> Differentiators</a:t>
            </a:r>
            <a:endParaRPr b="0" lang="en-US" sz="44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IndeServe is a national services compan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e are proven experts at delivering quality servi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e are specialists in dealing with trades suppliers and service provid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e apply these to take responsibility for ensuring your assets and infrastructure are continuously optimised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88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We make it happen on time and let you get on with your core business activiti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391520" y="5905440"/>
            <a:ext cx="1752480" cy="952560"/>
            <a:chOff x="7391520" y="5905440"/>
            <a:chExt cx="1752480" cy="952560"/>
          </a:xfrm>
        </p:grpSpPr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7391520" y="5905440"/>
              <a:ext cx="15526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8217000" y="6279840"/>
              <a:ext cx="7081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8307360" y="6264000"/>
              <a:ext cx="578160" cy="31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336699"/>
                    </a:solidFill>
                    <a:miter/>
                  </a:ln>
                  <a:solidFill>
                    <a:srgbClr val="336699"/>
                  </a:solidFill>
                  <a:latin typeface="Scribble"/>
                </a:rPr>
                <a:t>Point</a:t>
              </a:r>
              <a:endParaRPr b="0" i="1" lang="en-US" sz="2400" spc="1" strike="noStrike">
                <a:ln w="9360">
                  <a:solidFill>
                    <a:srgbClr val="336699"/>
                  </a:solidFill>
                  <a:miter/>
                </a:ln>
                <a:solidFill>
                  <a:srgbClr val="336699"/>
                </a:solidFill>
                <a:latin typeface="Scribble"/>
                <a:ea typeface="Scribble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86960" y="6619680"/>
              <a:ext cx="296640" cy="16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01000" y="659124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336699"/>
                  </a:solidFill>
                  <a:latin typeface="Arial Narrow"/>
                </a:rPr>
                <a:t>from IndeSer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788400">
              <a:off x="8124480" y="6262200"/>
              <a:ext cx="139680" cy="60120"/>
            </a:xfrm>
            <a:prstGeom prst="parallelogram">
              <a:avLst>
                <a:gd name="adj" fmla="val 58084"/>
              </a:avLst>
            </a:prstGeom>
            <a:solidFill>
              <a:srgbClr val="f7b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31120" y="6240240"/>
              <a:ext cx="836640" cy="33804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7470720" y="6279840"/>
              <a:ext cx="75744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RVICE</a:t>
              </a:r>
              <a:endPara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48600" y="6264000"/>
              <a:ext cx="19080" cy="19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cubicBezTo>
                    <a:pt x="48" y="0"/>
                    <a:pt x="0" y="48"/>
                    <a:pt x="0" y="48"/>
                  </a:cubicBezTo>
                  <a:cubicBezTo>
                    <a:pt x="0" y="48"/>
                    <a:pt x="48" y="0"/>
                    <a:pt x="48" y="0"/>
                  </a:cubicBezTo>
                  <a:close/>
                </a:path>
              </a:pathLst>
            </a:custGeom>
            <a:solidFill>
              <a:srgbClr val="6397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190760" y="304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Scribble"/>
              </a:rPr>
              <a:t>‘</a:t>
            </a: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Service</a:t>
            </a:r>
            <a:r>
              <a:rPr b="0" i="1" lang="en-US" sz="5400" spc="-1" strike="noStrike">
                <a:solidFill>
                  <a:srgbClr val="990000"/>
                </a:solidFill>
                <a:latin typeface="Arial Narrow"/>
              </a:rPr>
              <a:t>Point</a:t>
            </a:r>
            <a:r>
              <a:rPr b="0" lang="en-US" sz="5400" spc="-1" strike="noStrike">
                <a:solidFill>
                  <a:srgbClr val="990000"/>
                </a:solidFill>
                <a:latin typeface="Arial Narrow"/>
              </a:rPr>
              <a:t>’</a:t>
            </a:r>
            <a:br>
              <a:rPr sz="5400"/>
            </a:br>
            <a:r>
              <a:rPr b="0" lang="en-US" sz="2000" spc="-1" strike="noStrike">
                <a:solidFill>
                  <a:srgbClr val="990000"/>
                </a:solidFill>
                <a:latin typeface="Arial Narrow"/>
              </a:rPr>
              <a:t>A service desk solution from IndeServe</a:t>
            </a:r>
            <a:endParaRPr b="0" lang="en-US" sz="2000" spc="-1" strike="noStrike">
              <a:solidFill>
                <a:srgbClr val="990000"/>
              </a:solidFill>
              <a:latin typeface="Scribb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2286000" y="2362320"/>
            <a:ext cx="6400800" cy="3962160"/>
          </a:xfrm>
          <a:prstGeom prst="rect">
            <a:avLst/>
          </a:prstGeom>
          <a:solidFill>
            <a:srgbClr val="8888e2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003366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sert Product Photograph Here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6" name="CIRCUITB" descr=""/>
          <p:cNvPicPr/>
          <p:nvPr/>
        </p:nvPicPr>
        <p:blipFill>
          <a:blip r:embed="rId1"/>
          <a:stretch/>
        </p:blipFill>
        <p:spPr>
          <a:xfrm flipH="1" rot="10800000">
            <a:off x="1828800" y="1904760"/>
            <a:ext cx="7162920" cy="4890960"/>
          </a:xfrm>
          <a:prstGeom prst="rect">
            <a:avLst/>
          </a:prstGeom>
          <a:ln w="0">
            <a:noFill/>
          </a:ln>
        </p:spPr>
      </p:pic>
      <p:pic>
        <p:nvPicPr>
          <p:cNvPr id="307" name="DESK" descr=""/>
          <p:cNvPicPr/>
          <p:nvPr/>
        </p:nvPicPr>
        <p:blipFill>
          <a:blip r:embed="rId2"/>
          <a:stretch/>
        </p:blipFill>
        <p:spPr>
          <a:xfrm>
            <a:off x="6477120" y="2133720"/>
            <a:ext cx="2244600" cy="2743200"/>
          </a:xfrm>
          <a:prstGeom prst="rect">
            <a:avLst/>
          </a:prstGeom>
          <a:ln w="0">
            <a:noFill/>
          </a:ln>
        </p:spPr>
      </p:pic>
      <p:pic>
        <p:nvPicPr>
          <p:cNvPr id="308" name="VAN" descr=""/>
          <p:cNvPicPr/>
          <p:nvPr/>
        </p:nvPicPr>
        <p:blipFill>
          <a:blip r:embed="rId3"/>
          <a:srcRect l="0" t="9089" r="0" b="22732"/>
          <a:stretch/>
        </p:blipFill>
        <p:spPr>
          <a:xfrm>
            <a:off x="5486400" y="3886200"/>
            <a:ext cx="2895480" cy="2414520"/>
          </a:xfrm>
          <a:prstGeom prst="rect">
            <a:avLst/>
          </a:prstGeom>
          <a:ln w="0">
            <a:noFill/>
          </a:ln>
        </p:spPr>
      </p:pic>
      <p:pic>
        <p:nvPicPr>
          <p:cNvPr id="309" name="SCREWDRI" descr=""/>
          <p:cNvPicPr/>
          <p:nvPr/>
        </p:nvPicPr>
        <p:blipFill>
          <a:blip r:embed="rId4"/>
          <a:stretch/>
        </p:blipFill>
        <p:spPr>
          <a:xfrm>
            <a:off x="2133720" y="2133720"/>
            <a:ext cx="2600280" cy="2971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362320" y="25146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533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KEYBOARD" descr=""/>
          <p:cNvPicPr/>
          <p:nvPr/>
        </p:nvPicPr>
        <p:blipFill>
          <a:blip r:embed="rId5"/>
          <a:srcRect l="0" t="0" r="0" b="15998"/>
          <a:stretch/>
        </p:blipFill>
        <p:spPr>
          <a:xfrm>
            <a:off x="2971800" y="3657600"/>
            <a:ext cx="2570040" cy="2971800"/>
          </a:xfrm>
          <a:prstGeom prst="rect">
            <a:avLst/>
          </a:prstGeom>
          <a:ln w="0">
            <a:noFill/>
          </a:ln>
        </p:spPr>
      </p:pic>
      <p:pic>
        <p:nvPicPr>
          <p:cNvPr id="313" name="WINDOW" descr=""/>
          <p:cNvPicPr/>
          <p:nvPr/>
        </p:nvPicPr>
        <p:blipFill>
          <a:blip r:embed="rId6"/>
          <a:srcRect l="0" t="0" r="0" b="29632"/>
          <a:stretch/>
        </p:blipFill>
        <p:spPr>
          <a:xfrm>
            <a:off x="0" y="0"/>
            <a:ext cx="2971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2:14:40Z</dcterms:created>
  <dc:creator>JohnF</dc:creator>
  <dc:description/>
  <dc:language>en-US</dc:language>
  <cp:lastModifiedBy>JohnF</cp:lastModifiedBy>
  <cp:lastPrinted>2003-11-28T23:29:17Z</cp:lastPrinted>
  <dcterms:modified xsi:type="dcterms:W3CDTF">2006-08-11T01:48:39Z</dcterms:modified>
  <cp:revision>185</cp:revision>
  <dc:subject/>
  <dc:title>[Product Name]</dc:title>
</cp:coreProperties>
</file>