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0C4-9731-41CE-A710-96AD1E7C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100-DFDE-4CE9-AAD5-6D19938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608-6A15-40B5-B36C-82B9A473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2B5-1209-4EF1-AC7B-7ECF9ED4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08D6-34F5-4A83-B5F3-2DF6C33B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11C3-E1A6-4893-B2A2-5B8B7391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4975-CACF-4398-8372-5ABE6EFF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3C75-4924-4B8E-8E9E-C536236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9B37-6E2D-4D5A-9867-0BA3AB0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94DE-FE8F-4D18-8F10-683CFEE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D642-C122-4B18-9118-FB1A257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3E7-822E-41D4-B48F-DD168414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BC1-9804-4582-988F-42EE753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BC91-3E08-4A0F-8B20-2E48233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17E3-F2E2-4452-BAAA-04B7C46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A758-2C52-4D33-A87C-68735DD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B55-854B-447C-844B-9CF2DD40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D30-21DE-4936-ABB8-A966AAEE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38C-AD29-4AE6-97BA-10E5260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79B-3706-47A5-A8F6-A0C021F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4EC-14F1-4389-86EC-734F804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FBF-B379-4A81-8368-3A53BB3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2FE-871B-4846-9498-D82155C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007-BBC7-4E8F-96F3-76D8803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CF6C-4732-4203-AD74-940B134B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1752480"/>
            <a:ext cx="7466040" cy="510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1120" y="1743120"/>
            <a:ext cx="95400" cy="51134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1743120"/>
            <a:ext cx="7580520" cy="950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9040" y="1906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9040" y="2668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9040" y="3430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9040" y="4192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9040" y="4954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9040" y="5716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9040" y="6478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5C34-10CF-460A-A9E4-44718AB7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30481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40" y="2084400"/>
            <a:ext cx="3052800" cy="48960"/>
            <a:chOff x="1440" y="2084400"/>
            <a:chExt cx="3052800" cy="48960"/>
          </a:xfrm>
        </p:grpSpPr>
        <p:sp>
          <p:nvSpPr>
            <p:cNvPr id="68" name=""/>
            <p:cNvSpPr/>
            <p:nvPr/>
          </p:nvSpPr>
          <p:spPr>
            <a:xfrm>
              <a:off x="1440" y="2084400"/>
              <a:ext cx="3052800" cy="489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0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440" y="2095920"/>
              <a:ext cx="15372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302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3660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29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49320" y="2095920"/>
              <a:ext cx="1540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74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38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020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14640" y="0"/>
            <a:ext cx="42840" cy="2131560"/>
            <a:chOff x="3014640" y="0"/>
            <a:chExt cx="42840" cy="2131560"/>
          </a:xfrm>
        </p:grpSpPr>
        <p:sp>
          <p:nvSpPr>
            <p:cNvPr id="80" name=""/>
            <p:cNvSpPr/>
            <p:nvPr/>
          </p:nvSpPr>
          <p:spPr>
            <a:xfrm>
              <a:off x="3014640" y="0"/>
              <a:ext cx="42840" cy="21315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16080" y="19670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16080" y="164952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6080" y="13312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6080" y="10137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6080" y="6958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16080" y="3783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16080" y="608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Log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128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130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1911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3276720"/>
            <a:ext cx="50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990000"/>
                </a:solidFill>
                <a:latin typeface="Arial Narrow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86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New Zealand’s leading service desk ‘request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completion’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management solution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914400"/>
            <a:ext cx="3733200" cy="2028240"/>
            <a:chOff x="2971800" y="914400"/>
            <a:chExt cx="3733200" cy="20282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971800" y="914400"/>
              <a:ext cx="330768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30400" y="1711440"/>
              <a:ext cx="1508400" cy="63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922640" y="1677960"/>
              <a:ext cx="123156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0080" y="2435400"/>
              <a:ext cx="63180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2374560"/>
              <a:ext cx="24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88400">
              <a:off x="4533480" y="1674720"/>
              <a:ext cx="297360" cy="127800"/>
            </a:xfrm>
            <a:prstGeom prst="parallelogram">
              <a:avLst>
                <a:gd name="adj" fmla="val 58169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6040" y="1627200"/>
              <a:ext cx="1782360" cy="7196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140280" y="1711440"/>
              <a:ext cx="16135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4600" y="1677960"/>
              <a:ext cx="40320" cy="40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 </a:t>
            </a:r>
            <a:r>
              <a:rPr b="0" lang="en-US" sz="4400" spc="-1" strike="noStrike" u="sng">
                <a:solidFill>
                  <a:srgbClr val="990000"/>
                </a:solidFill>
                <a:uFillTx/>
                <a:latin typeface="Arial Narrow"/>
              </a:rPr>
              <a:t>complete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 service desk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pplication suit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A tried and tested, feature rich, m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MANAGED SERVICES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powerful web-based applications and software tools -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d on in-house application developments by our data management 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en, efficient documented processes for all “request to completion” service job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ined and experienced operational personnel and technicia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latest computer and communications technolo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4864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148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eployment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Model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31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n </a:t>
            </a:r>
            <a:r>
              <a:rPr b="0" lang="en-NZ" sz="2800" spc="-1" strike="noStrike">
                <a:solidFill>
                  <a:srgbClr val="990000"/>
                </a:solidFill>
                <a:latin typeface="Arial Narrow"/>
              </a:rPr>
              <a:t>ASP solution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you operate all aspects of the system, hosted by IndeServ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GB" sz="2800" spc="-1" strike="noStrike">
                <a:solidFill>
                  <a:srgbClr val="990000"/>
                </a:solidFill>
                <a:latin typeface="Arial Narrow"/>
              </a:rPr>
              <a:t>Outsourced solution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ndeServe personnel provide a fully management service, with full access by your Authorise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0" y="5562720"/>
            <a:ext cx="1116000" cy="1143000"/>
            <a:chOff x="6858000" y="5562720"/>
            <a:chExt cx="1116000" cy="1143000"/>
          </a:xfrm>
        </p:grpSpPr>
        <p:grpSp>
          <p:nvGrpSpPr>
            <p:cNvPr id="165" name=""/>
            <p:cNvGrpSpPr/>
            <p:nvPr/>
          </p:nvGrpSpPr>
          <p:grpSpPr>
            <a:xfrm>
              <a:off x="6934320" y="6095880"/>
              <a:ext cx="761400" cy="598680"/>
              <a:chOff x="6934320" y="6095880"/>
              <a:chExt cx="761400" cy="598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6440" y="6095880"/>
                <a:ext cx="285480" cy="23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46880" y="6166440"/>
                <a:ext cx="34884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200" y="6415200"/>
                <a:ext cx="3333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34320" y="6272640"/>
                <a:ext cx="380880" cy="31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80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5562720"/>
              <a:ext cx="1116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deServe National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Service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4191120"/>
            <a:ext cx="1066680" cy="1143000"/>
            <a:chOff x="2057400" y="4191120"/>
            <a:chExt cx="1066680" cy="1143000"/>
          </a:xfrm>
        </p:grpSpPr>
        <p:grpSp>
          <p:nvGrpSpPr>
            <p:cNvPr id="173" name=""/>
            <p:cNvGrpSpPr/>
            <p:nvPr/>
          </p:nvGrpSpPr>
          <p:grpSpPr>
            <a:xfrm>
              <a:off x="2209680" y="4724640"/>
              <a:ext cx="762120" cy="597960"/>
              <a:chOff x="2209680" y="4724640"/>
              <a:chExt cx="762120" cy="5979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800" y="47246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2600" y="47952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0560" y="50436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209680" y="49017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2057400" y="41911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41911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057400" y="5562720"/>
            <a:ext cx="1066680" cy="1143000"/>
            <a:chOff x="2057400" y="5562720"/>
            <a:chExt cx="1066680" cy="114300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6096240"/>
              <a:ext cx="762120" cy="597960"/>
              <a:chOff x="2209680" y="6096240"/>
              <a:chExt cx="762120" cy="597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1800" y="60962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22600" y="61668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90560" y="64152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209680" y="62733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20574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55627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0600" y="434340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86728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320" y="640080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23720" y="640080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8960" y="638316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7240" y="64008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124080" y="571500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6080" y="5486400"/>
            <a:ext cx="205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Performance management and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47242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760" y="472428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m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1240" y="43434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280" y="45720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" y="59436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OUTSOUR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91520" y="1981080"/>
            <a:ext cx="1752480" cy="952560"/>
            <a:chOff x="7391520" y="1981080"/>
            <a:chExt cx="1752480" cy="952560"/>
          </a:xfrm>
        </p:grpSpPr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7391520" y="198108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217000" y="235548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307360" y="233964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86960" y="269532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1000" y="26668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88400">
              <a:off x="8124480" y="233784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1120" y="231588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7470720" y="235548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233964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Clicking on to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057400"/>
            <a:ext cx="304776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3048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1st level trained operato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echnology, Loc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ocesses,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4/7 Request To Compl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Web application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er online reques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urchasing, 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5334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ustomer Sub-w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ocument storage &amp;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line asset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133720"/>
            <a:ext cx="31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IndeServe</a:t>
            </a:r>
            <a:r>
              <a:rPr b="1" lang="en-NZ" sz="1600" spc="-1" strike="noStrike">
                <a:solidFill>
                  <a:srgbClr val="990000"/>
                </a:solidFill>
                <a:latin typeface="Arial"/>
              </a:rPr>
              <a:t>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National Service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Outsourced ‘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rvice Desk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19810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743200"/>
            <a:ext cx="1143000" cy="6094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3526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65760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73392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ssword-secure Web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hone, Email or Fax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RVICE REQUESTS, PURCHASES, QUOTATIONS, TRACKING, REPORTING,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72428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7242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057400"/>
            <a:ext cx="1828800" cy="441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8936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2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2420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3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8320" y="2590920"/>
            <a:ext cx="1569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deServe Resol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nd Fron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chnicians &amp;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3rd Par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038480"/>
            <a:ext cx="15667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 Narrow"/>
              </a:rPr>
              <a:t>FACIL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Cabling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Electrical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ow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ir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Heating &amp; 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Building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814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6386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9528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1911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90920"/>
            <a:ext cx="1676520" cy="137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038480"/>
            <a:ext cx="1676520" cy="2362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Easy Access!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act,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rol!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1828800"/>
            <a:ext cx="2361600" cy="1809360"/>
            <a:chOff x="990720" y="1828800"/>
            <a:chExt cx="2361600" cy="18093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694160" y="1828800"/>
              <a:ext cx="90432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246760" y="1994400"/>
              <a:ext cx="110556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146320" y="2768040"/>
              <a:ext cx="105516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990720" y="2380680"/>
              <a:ext cx="1206000" cy="9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 rot="11823600">
            <a:off x="3502800" y="3352680"/>
            <a:ext cx="2220840" cy="65736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124080"/>
            <a:ext cx="3124440" cy="3353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267080"/>
            <a:ext cx="1447560" cy="2210040"/>
          </a:xfrm>
          <a:prstGeom prst="flowChartMagneticDisk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943600" y="3581280"/>
            <a:ext cx="1828800" cy="1285920"/>
            <a:chOff x="5943600" y="3581280"/>
            <a:chExt cx="1828800" cy="128592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6477120" y="3581280"/>
              <a:ext cx="68580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934320" y="3733560"/>
              <a:ext cx="83808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858000" y="4267080"/>
              <a:ext cx="80028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5943600" y="396180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5718600" y="4952880"/>
            <a:ext cx="259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1st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chedulers &amp; Resour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nd and 3rd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Delive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atabase and Sub-web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ers and Draughts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7600" y="3182760"/>
            <a:ext cx="26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OUTSOURCED</a:t>
            </a:r>
            <a:r>
              <a:rPr b="1" lang="en-GB" sz="1600" spc="-1" strike="noStrike">
                <a:solidFill>
                  <a:srgbClr val="990000"/>
                </a:solidFill>
                <a:latin typeface="Arial Narrow"/>
              </a:rPr>
              <a:t> SERVICE </a:t>
            </a: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 rot="2745000">
            <a:off x="4367880" y="4242240"/>
            <a:ext cx="7239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Sub-web</a:t>
            </a:r>
            <a:endParaRPr b="0" lang="en-US" sz="2400" spc="1" strike="noStrike">
              <a:ln cap="sq"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1755000" y="4800600"/>
            <a:ext cx="34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obs request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Qu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 Packaged Pric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ing: Stats, Trends, SLAs, 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te records, Maintenance records, Audi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work diagrams, As-builts,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sset Records, Inventory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08600">
            <a:off x="2855880" y="3746520"/>
            <a:ext cx="2035080" cy="37944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160" y="23623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47480" y="2438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2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962520"/>
            <a:ext cx="1752480" cy="952560"/>
            <a:chOff x="457200" y="3962520"/>
            <a:chExt cx="1752480" cy="95256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457200" y="396252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282680" y="433692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373040" y="432108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2640" y="467676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46483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788400">
              <a:off x="1190160" y="431928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6800" y="429732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36400" y="433692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432108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ServicePoint’ target marketplac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67652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Narrow"/>
              </a:rPr>
              <a:t>50 to 5,000 staff, 1 to many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entral governmen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te-owned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anks &amp; Financial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surance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dical frater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nerg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fess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pert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in enterprises, eg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tels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ail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3429000"/>
            <a:ext cx="1752480" cy="952560"/>
            <a:chOff x="457200" y="3429000"/>
            <a:chExt cx="1752480" cy="95256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57200" y="342900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282680" y="3803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373040" y="3787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143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4114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88400">
              <a:off x="1190160" y="3785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6800" y="3763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36400" y="3803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4280" y="3787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Point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ifferentiator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deServe is a national services compan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proven experts at delivering quality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specialists in dealing with trades suppliers and service provid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pply these to take responsibility for ensuring your assets and infrastructure are continuously optimis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make it happen on time and let you get on with your core business activ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391520" y="5905440"/>
            <a:ext cx="1752480" cy="952560"/>
            <a:chOff x="7391520" y="5905440"/>
            <a:chExt cx="1752480" cy="9525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7391520" y="590544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17000" y="627984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307360" y="626400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6960" y="661968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1000" y="65912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788400">
              <a:off x="8124480" y="626220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1120" y="624024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470720" y="627984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48600" y="626400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307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309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313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2:14:40Z</dcterms:created>
  <dc:creator>JohnF</dc:creator>
  <dc:description/>
  <dc:language>en-US</dc:language>
  <cp:lastModifiedBy>JohnF</cp:lastModifiedBy>
  <cp:lastPrinted>2003-11-28T23:29:17Z</cp:lastPrinted>
  <dcterms:modified xsi:type="dcterms:W3CDTF">2006-08-11T01:48:39Z</dcterms:modified>
  <cp:revision>185</cp:revision>
  <dc:subject/>
  <dc:title>[Product Name]</dc:title>
</cp:coreProperties>
</file>